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884D-04D1-45D6-B324-D0358537F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1E7C-8293-4A73-A024-A3758E7B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709B-9AC9-4F96-9886-C4DB7D207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37A6-47BA-4021-884F-53423711E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FA0F-A917-40B5-9851-6765266B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9E5C-3F71-4382-B86F-C34F6A04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8635-ECEB-4942-BDA8-CCAD7B10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FF4B-F1FA-4A5D-8E42-153B7CEA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709B-686B-4F45-BB55-CED58D6C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FA95-DF65-4CEF-A8EB-C07E1222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B1AE-6819-4ED8-8995-FAC8DA75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6CF1-26D9-4DFA-A465-B2A340EF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C8BB-0451-4602-BFBB-25F0CA9B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4D4C-FE2D-4FC1-8856-5AA24C03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624B-9CB5-4767-9F16-F9D29461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0D7D-2C31-4C9B-BFD9-CA65B7C86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895E-917C-449C-B0DB-1E0EE1E6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9366-1122-45EC-A917-E40D8E65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E940-5A78-4FD6-96F2-85F3FD3B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3ACB-63A4-425B-A537-50AAB246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1C68-1DCF-4F85-BCD3-65B50FCE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17F9-3264-4771-9AFB-70663C91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4369-690E-4879-9E33-4F6D341D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7C88-A49F-41B8-95DA-45013320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423D-78DC-4E1B-9069-02781E6DF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30EC-A28F-45DD-A856-F83582804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am Handba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49640" y="4191120"/>
            <a:ext cx="5408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fe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d the ball for 3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bble while statio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step foot in “Creas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Broken rule results in turn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e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lock path to goal with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slap ball out of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lap a dribbled 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step in “Creas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ball hits wall automatic turn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If ball hits wall behind goal it is goalies throw regardless of who last touched 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foul is committed it is a free throw from spot of in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After every goal play begins with a throw off from center ci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score from free th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stall, have to make effort to go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4 field players per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GK per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00:35:02Z</dcterms:created>
  <dc:creator>spencer stanton</dc:creator>
  <dc:description/>
  <dc:language>en-US</dc:language>
  <cp:lastModifiedBy>spencer stanton</cp:lastModifiedBy>
  <dcterms:modified xsi:type="dcterms:W3CDTF">2011-04-16T16:53:10Z</dcterms:modified>
  <cp:revision>13</cp:revision>
  <dc:subject/>
  <dc:title>Badminton</dc:title>
</cp:coreProperties>
</file>